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53D-E890-4D73-838F-17F60851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452C-E640-4668-B9D6-85A6561F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F8EC-1DBF-4769-8FAD-83739CBB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E65D-65BC-4C30-934F-6071DCC5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C6A-E3DB-451B-B008-56340C9E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069-96B5-43ED-8AB7-A6B58D1F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8BB7-5EB9-4384-842D-D0A12105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D09-6129-4675-9145-F32F1631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D6F5-F8C3-44E3-A297-C3AD6CDC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AC74-AC68-43A9-82FA-9D617937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A28F-4E4F-4DC3-A432-E11E6CC2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9FE-8603-461C-B8AF-C4BA8524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80075-E585-4341-9A42-767BC92BA6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320" y="109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ykia  wor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911160"/>
            <a:ext cx="2514600" cy="82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prob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kala  read  1.5 hour Nykia read 2.5  time as many hours more than  Mykala. How many more hours did Nykia  read than Myka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2743200"/>
            <a:ext cx="45943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857840" y="411480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Times New Roman"/>
              </a:rPr>
              <a:t>your text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0" y="411480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Times New Roman"/>
              </a:rPr>
              <a:t>Nykia multip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Times New Roman"/>
              </a:rPr>
              <a:t>lication word proble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2286000"/>
            <a:ext cx="89377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2057400"/>
            <a:ext cx="68580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gwarts has 4 8 windows and 12 bedrooms each bedroom  had a equal number of windows in each bedroom how many windows are in each 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9920" y="428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1371600"/>
            <a:ext cx="228600" cy="228600"/>
          </a:xfrm>
          <a:prstGeom prst="ellipse">
            <a:avLst/>
          </a:prstGeom>
          <a:solidFill>
            <a:srgbClr val="99ccff"/>
          </a:solidFill>
          <a:ln w="146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1143000"/>
            <a:ext cx="8458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286000"/>
            <a:ext cx="64008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109440" bIns="81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2514600"/>
            <a:ext cx="914400" cy="1440"/>
          </a:xfrm>
          <a:prstGeom prst="line">
            <a:avLst/>
          </a:prstGeom>
          <a:ln w="547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2743200"/>
            <a:ext cx="685800" cy="228600"/>
          </a:xfrm>
          <a:prstGeom prst="ellipse">
            <a:avLst/>
          </a:prstGeom>
          <a:solidFill>
            <a:srgbClr val="99ccff"/>
          </a:solidFill>
          <a:ln w="201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2743200"/>
            <a:ext cx="457200" cy="457200"/>
          </a:xfrm>
          <a:prstGeom prst="ellipse">
            <a:avLst/>
          </a:prstGeom>
          <a:solidFill>
            <a:srgbClr val="333333"/>
          </a:solidFill>
          <a:ln w="2012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1828800"/>
            <a:ext cx="457200" cy="457200"/>
          </a:xfrm>
          <a:prstGeom prst="ellipse">
            <a:avLst/>
          </a:prstGeom>
          <a:solidFill>
            <a:srgbClr val="333333"/>
          </a:solidFill>
          <a:ln w="73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9920" y="428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4:18:14Z</dcterms:created>
  <dc:creator/>
  <dc:description/>
  <dc:language>en-US</dc:language>
  <cp:lastModifiedBy/>
  <cp:revision>1</cp:revision>
  <dc:subject/>
  <dc:title/>
</cp:coreProperties>
</file>